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E58-85B5-46DC-8A2D-75E7A3F1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FBA-D9FF-4B3E-9BBF-CE71A223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BD6A1-0813-455C-9F3D-190053A8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8D018-2B6A-42EE-AB62-0347E89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642D8-5F89-4A6C-9AFA-903C2F33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B996-ABD9-4465-A462-A149CAF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DBBFE-C605-4FC0-9BAB-35F8D08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7621C-5054-4478-9F54-B45F6FE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5DDCD-2090-4C6C-9F89-163D0BB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E3C55-95B0-4B6E-A760-3023514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E2AFA-A62D-460E-8EA7-1DAE9DE6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46E9E-78C1-4110-8D7B-F0975BB9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90B-B30A-4329-9133-559B6AD6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6027F-CC7A-48CB-8AF3-451566B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F8192-6244-477F-A3E6-DEA6686D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95089-9BEC-4B4F-A20E-C71899C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AC889-C2D4-4252-85B3-6B5C5357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F1CFF-0705-4D6D-9695-7BEED3D6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88D2B-7BE6-4BB9-BCC6-13712D6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1FD4C-1F4A-4FD8-BA2B-ECDCBCE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B2B69-AE8B-450C-8BB1-73704FE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A4113-3461-4978-B486-542A532D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79695-39C8-410A-A66A-A3E06F1A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DAD-183F-4C14-AA3E-F7B8EB59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29F27-3F70-40DF-A7B0-626AB3E6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43A37-4EF7-46DA-88D4-03343F54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19F1A-0980-46E3-B577-16BF5919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00E2-B5D1-4701-B93B-0D853B6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C4864-1E1D-476C-BCA2-F9458D3B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ACC6-A05A-45CD-B225-8FC81AE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88537-38EA-4E4B-9AF2-3E21029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9041-5AAD-43A0-938A-4EBDCF7E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88110-34AA-4558-8B89-B660931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2C42C-A683-4A43-AF72-1F6E263B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488E-0418-4FA1-8CB1-ED65DEBE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C2C80-682F-45DF-A01B-F669FC9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4DE66-71BE-4768-A54F-92315D2B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22DC2-6812-46A1-956F-35A99D65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50A4D-625F-46D4-9C22-BEA6E929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97521-9EA0-4F8C-BFC7-EAE7C66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DB06-9FE6-40ED-8151-FCA4E64B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0F24-2755-4678-A5B7-7359CBDF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BF69-1C7E-4422-910C-DA1F365A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1AA5D-69BD-4238-9667-8CAC7DE1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DF0FC-21D7-40B0-8CE8-11DFF0E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23A-A532-4010-AA88-BB969808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B0894-D127-4460-82A8-BA913EA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B25D8-AD92-4653-9C24-AC93DAB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C030D-562D-4337-91D3-DC63F5B1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2FC4-AF35-4F2B-8195-4FA6932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94749-EC3C-4AB9-BE19-3FC680A4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165B3-95DD-4BC5-BBF3-0E30496D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8D2C6-1B69-459E-A710-50453D9A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BBAC2-7741-4C9E-8861-6659E93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885CA-CE1B-43A4-99C1-714D9620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2812E-D9E8-43AF-8F1A-19059F59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ABE-8986-4294-A936-050B311E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27404-838E-4BE8-88C1-6BF20E1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87A59-2FCF-4206-A1C7-F6F4355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6A50F-3753-4A9E-A731-BFD27BF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2E6B0-989F-46A6-9A66-269C007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8D67A-8821-4CCE-B70B-8571A0AF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32CC5-AA7E-4836-842E-2B47C0A6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70C7F-6EBB-450A-8240-DDBB3D41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3113A-9357-407B-8A39-074D5A72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6663B-B0C1-4B47-92CE-AED8022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02755-3938-458F-A178-46403FD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27D-3E57-4660-A8D1-1FA8949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6999A-B585-4729-9E5E-E151570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1FCFE-DEBB-4A89-95F5-4769D4D1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E7081-B147-4AAF-8E6F-5FDC427A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E570D-77CE-48D9-9A30-08242F0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757A6-BCBE-465E-B600-CDEC0C5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9393B-6E80-45E2-B8B2-4D44007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2E576-C53B-4418-B683-86A40BA3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0A22D-7B36-4145-B1BB-BB81BC38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69755-46DF-4247-8BBD-AD99D2E0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7BE37-D886-46CE-8593-EAF4F67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1E97-749C-4A01-B756-4BCBF604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33934-08C5-4D13-AF6F-95915025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5038C-DCEF-41DC-AB9B-2E98C02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F7CD9-2F90-485C-9780-64621E46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EA5EB-C478-4148-8FAF-41BECB23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C4B20-8428-4395-B59F-5E27164F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188DE-D190-4D3F-9565-3AD7FA0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A651F-E350-4CD1-B467-35E5019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00853-B25D-432C-B67D-43286B8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E2567-F823-4820-89D3-C7480E2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40DD4-C69B-437F-9DBD-6409F690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9F1B-E626-46E0-AE35-E3FBEE37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FE2F6-1AF0-449E-8FED-CD5A9AE7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7EFFE-0127-4A37-A7D2-54F9C728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04540-532A-47A4-81BD-AC95C321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6F287-2E40-40A7-98AC-EE27D9C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A7EC5-7269-41D1-8048-75ECC11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06A41-CE80-4AD2-BADF-9E17498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D8D7E-AA2A-4EB5-A7C9-B4E9C0B7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B6C3F-C885-48CB-9948-E3F62193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3D333-D3CF-4C85-9C6F-D59F23E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3F4BF-9965-4E33-8D2C-6B45497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32E-086F-466C-BA5B-CF3165F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35721-0BFE-4A9F-A378-2A61D662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62BB2-ED76-44D3-A762-934866A5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03B23-1CA7-425F-8A2F-EEE2D73D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451A7-205C-4A9F-8E64-D805E640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E9A5C-3F4E-480E-B9D9-B637105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38AF3-8B51-4B86-9703-39B70E3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BF54F-89FF-43A7-9876-E0AC5F6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5C517-B998-420C-B053-EF0874E0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B4310-6DF5-4D2D-BB68-F4C4AAA8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6EC5F-9F11-471A-B737-39D85DA4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6FE-2C4D-45F1-AB85-96A3C6D4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010-F913-4C13-96B2-73F6D14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7A8B1-2ED6-49B2-ABB1-B4CBB8F7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9B469-0DFD-4918-A294-9914DC8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66267-2CB1-4157-B914-DDC48922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26DCA-E6C0-426F-A637-12B24D80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FD7AD-6C25-47A3-945E-B127005C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20759-24E2-444E-AF9F-EA640F6B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8D86AB-6C31-4ECD-9861-FB04261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0460F-D8F9-4FD2-A8CA-9B961532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BEA615-DD59-4BD3-BEBA-7B5147E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A1AFA-DEC1-4913-BD59-A5214D50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FCAF-F4DC-45A0-A15F-AC24D75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2F57E-A940-4C8D-9B80-0B5763E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36C33-EBA4-4EEB-95AE-F9B8BE3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CF4D0-FA99-4F17-BA3F-9825DCC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CCE24-DD73-4D54-9CF6-DC79263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C03FB-B2B2-4B07-8264-49EB84C8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9FA55-D445-431D-A073-53E386A6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C60A8-2777-4787-B582-A2C88302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62125-7DF0-4ABE-A441-1156B35A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A8AD0-15F8-4968-AA41-DE942A9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D2BA0-B4B0-4EF4-8AC4-3846DA18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AE6B-3601-4503-BC05-39EE3381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99137-F543-4EC7-9DC7-8853E116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DEF36-830C-4A3E-B90D-EF171E8A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854DD-5EAE-4D62-BFED-45CA9887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AFCEB-7032-4CF0-A1EF-E91D9CCE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4B18D-AC74-4BF7-99F3-EBAC483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32710-2BAC-4B6F-AB5E-1FDE7EE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81829-413D-4EB5-A35E-13E7DA66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47AEB-01B7-4030-9C57-58F85D36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EA9CB-1D6E-4AD3-9B3C-163FD9DF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FE2A5-2E4A-4E6A-A41B-F844CC29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F68-9842-41F2-8DD3-E5F85F00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C1D82-F1DF-4B16-ADD6-C3A33801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3D1BB-3C9E-4D58-8975-43E7265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6F381-7549-438D-A68E-918F5A0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7F942-6DCA-4061-B48D-FCAB95A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B56FF-87D1-47D2-845C-A9D02A5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5CA76-3829-4D4F-86D9-5480823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76082-65C5-4BF8-AEBC-6DFEAD0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EB203-5DEA-4BA1-86CA-DDAAE29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61845-8EE3-43BF-9327-42E8BA52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AE9D3E-5A2F-4CEB-A5AE-C09E2508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9A14-09FF-422F-8A83-ACDAEC53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24D3F-25DE-433D-BB58-AA23B77C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3FF03-0769-4F2F-A120-8EDD7B2D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A2C0C-2266-45C8-8022-2A33E8F6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644AE-8B55-43BA-9A5B-D16CB044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CD2A2-D200-4414-A590-D1FC595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68663-3C4B-4C65-A08A-E1B579D2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EA2BB-EA23-4F53-A823-25B1EB55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E81B9D-126C-415A-8BF3-DC057D2C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83409E-C5EC-41C2-ABC0-AD404C76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1D67B-114F-4FBC-BAA9-AF92A8D5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A0FC-1B0D-43DC-9B16-AA15EA84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94161-EF87-48EB-81D1-64C157FB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C2A57-800B-43E9-B164-B92F4558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3EC3B-1F23-49C9-A757-9F3AD1CE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A024-74CF-41BC-BD20-73B06559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894F-724C-4C82-B3E4-A1A69A2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57A2-459E-41B7-807A-4231CB3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B662-8A25-410D-B23F-7563574A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B06-7647-4698-AB5F-3D6BE44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7A2D-2668-428B-BA1A-AF297067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FF33-E8BA-4E12-93EC-B84C0EB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56FF-4961-4EEF-A460-0D609C8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F2F9-B8F8-48D0-A111-FD6D0EB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475E-44FC-4A5B-A8B4-E5249AA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3D3A-2875-4A47-B15C-A9B403EC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4AAE-2109-4F94-9BAC-5AADBFE9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3E85-25C3-4604-8B52-509943D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D114-939B-40B0-A9C5-992F5EDD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CE4E-8E65-469A-8DFA-B097E33D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207-506F-44C6-9280-F03431FF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C1EF-0B87-45DA-A600-4E7B694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851B-26E3-42E2-A5BF-C1ED424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AEFA9-D3D7-412B-87DE-D21BCACE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AFD7-60B1-4C8A-9903-DE101CAE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7498-3B52-44CC-B206-0F7183C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1AA1-D230-42DB-A44B-72EBFF3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773F-480D-4908-9E04-9A9A121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342B-4E04-4727-BFF8-A9E4A063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9418-8FEA-4A70-9E1E-5EECD4E6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7BA4-8AFC-4732-AEB0-0821FED3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7E8-EA58-4039-8337-A2792DA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669E-9F34-47E1-A56B-C7BC7918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EA0B-3430-491A-B639-A690230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5D76-0D8C-4385-8369-93914D32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2B6C-9C9F-4BD5-90B0-0C877B9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54A7-6653-496E-84A1-DF143E66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D036D-0E3B-4A40-A616-BD0BE7A9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BD54D-1C9C-4A66-9FA7-811DD24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866D-762E-405F-9669-73D01BB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DF359-0D27-4A7F-8EF5-0F0B0878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39A1-7F5F-4FB1-8956-E85E866F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9E1-1E3A-4786-9790-CC2CBE0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82AF6-1CCC-4677-A78C-92DDF10D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79107-C8E7-4317-8C45-511CB4B2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B5740-4C8C-476D-BF13-22FB3CC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E8407-399A-4B0D-B0B8-980EE3EA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AA39D-EBE9-4B61-9342-BCDCA2D1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D67C2-AC17-429E-A26F-036E4F40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444A-54E0-40CD-86EA-08FC6F3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A48A-FDFA-48B6-BCA3-15087DC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57ED4-418F-4247-B8CB-15A2A359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51DCB-527F-4BEE-BB7B-7AD661BE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1AA-7AC2-4714-BAE3-1E69477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EFD4F-DA62-405E-AB4B-C23778D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97EC-6BF8-47D1-B26A-D4EE74CF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112C9-C6F5-4F76-9153-9814EED6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D237-6710-4505-B231-EF4F0419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7A1B-A08A-48A4-A471-3A2744FC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347D-9619-4C01-816F-322FEAF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B6485-E095-4DF8-B607-97EE8FC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A8D9-74E7-47C6-9B4D-7C97973A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A09F-9898-4F42-B005-0EE72CE7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2159A-A12F-4CC7-B20A-7B6E087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A27-5ECB-48E8-A0EF-EE63486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693D-4198-453F-9B52-068E51D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0E180-2338-4015-9CDC-A4006B4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BB23-3A4C-439C-BBF8-27E05DA2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F8329-A5F8-4E67-A088-DF7CD50F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562A5-83D1-4784-A500-3D5E3BB2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0986-C711-4F89-9523-06A51156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04F3E-388C-4960-ACD0-571BE45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0483F-EAF4-4164-B740-CD97DD1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D9C80-E280-4CF2-A7C4-57B6654E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E7C7-7DE3-4647-B756-C491A2E6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685-059F-45E2-A4F6-4B8912D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70F66-1204-402A-A644-7E4F03E2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D421-61B8-451A-97D8-9A36746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6DD97-AC64-42A2-98E3-81FC6942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2EF8-BA5C-49E1-983C-457D019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6ADE0-5386-4830-A50D-04850288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ADE9-F95C-437A-B9D5-34FD17F1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B32EF-5C55-4C78-B493-6844B54D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0D2B-5227-41F5-8140-EF9F4B71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CCF40-4192-4870-8E86-EF26C996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9AFB8-0448-407F-BDFF-F112C85E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915-1115-4C49-A536-D80AE2AF6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89B-3D75-4503-B84C-F7FC2874B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7C82-8607-47D0-80C9-1720E02ECF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290F-E9EA-460F-B7C1-33423E9DE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83F8-C5E0-4ACA-8729-7CB56618D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C94-CFA1-4A71-8FCB-391B0AF75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153F-1BF5-473A-B45A-F3E15E0FD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2870-A942-4DE6-A643-E1728BEF4F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20D-C5A0-4118-94D0-AF7FDADA4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1342-1482-47A6-BF53-8B8D76ACE0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6D3-CE38-43C0-8E2A-0D2465D677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4D63-2EAF-437A-92C1-A0091FEE5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B163-7265-4927-8EA9-E61DABB912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F820-48EE-431F-8517-150E28BC2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F484-9617-43FF-BAD8-5B5F07AD7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E0F0-4ED1-4999-A231-410A24E88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0B7-DAF0-45DE-82A0-187EC1C12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6FF-83BF-458D-B8C2-5A74B4C145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309-9FEE-40E5-9924-241D12635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ABA-4193-4D39-B62A-EFDD20FD23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B01E-591F-426D-9DDA-116A9DD26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A012-5427-4660-A98B-AD62C5769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F96-4E75-4525-9055-E1939CC83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E7DF-9DF2-4B5F-8039-F72C9E815F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990F-2C84-41DB-9E95-33CB63EFF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2E1E-BB92-4554-B087-BC2A439D0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1B8-5A95-4A34-BE15-F7E76E341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92A0-F613-4FD8-8D7C-E63384D270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E4DB-F3C1-41D8-BFC2-5A470D690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402-C7CC-4A16-A452-398EB016F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454-2CAF-4129-8915-6FC28CB066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4A9-6404-46E2-9E5E-7B2A022A2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08F0-7193-4CA6-B642-B43A4C9F7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6DBB-C2ED-40B0-8ADE-61B3B562B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D366-EAF7-412E-AF93-D3D41D0C6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77AA-5024-4218-B6A1-557EE5211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772-7C33-4336-882A-BAFBB0F66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B64-9751-43A8-8DAC-CAA9EA1AC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7D7-9F71-41B1-A4E7-DF9B8CCCE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CF3E-30AD-40C3-B092-99F0A8DFA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00480" y="2133720"/>
            <a:ext cx="4343400" cy="676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381400" y="3375000"/>
            <a:ext cx="4381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466560" y="1052640"/>
            <a:ext cx="8210880" cy="4752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851280" y="2981160"/>
            <a:ext cx="289080" cy="201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306520" y="3676680"/>
            <a:ext cx="358920" cy="250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564000" y="3654360"/>
            <a:ext cx="358560" cy="250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925720" y="4282920"/>
            <a:ext cx="358920" cy="250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5651640" y="2943360"/>
            <a:ext cx="358560" cy="250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724360" y="3645000"/>
            <a:ext cx="503280" cy="250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958080" y="2952720"/>
            <a:ext cx="223920" cy="250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7361280" y="2924280"/>
            <a:ext cx="223920" cy="250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6948360" y="3645000"/>
            <a:ext cx="503280" cy="25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6372360" y="4282920"/>
            <a:ext cx="503280" cy="250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1763640" y="5138640"/>
            <a:ext cx="504720" cy="250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3995640" y="5132520"/>
            <a:ext cx="505080" cy="250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6218280" y="5113440"/>
            <a:ext cx="504720" cy="250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8317080" y="5113440"/>
            <a:ext cx="504720" cy="250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1754280" y="5506920"/>
            <a:ext cx="504720" cy="250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3995640" y="5497560"/>
            <a:ext cx="505080" cy="250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8"/>
          <a:stretch/>
        </p:blipFill>
        <p:spPr>
          <a:xfrm>
            <a:off x="6227640" y="5497560"/>
            <a:ext cx="505080" cy="250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9"/>
          <a:stretch/>
        </p:blipFill>
        <p:spPr>
          <a:xfrm>
            <a:off x="8317080" y="5506920"/>
            <a:ext cx="5047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9410" descr=""/>
          <p:cNvPicPr/>
          <p:nvPr/>
        </p:nvPicPr>
        <p:blipFill>
          <a:blip r:embed="rId1"/>
          <a:stretch/>
        </p:blipFill>
        <p:spPr>
          <a:xfrm>
            <a:off x="123840" y="1557360"/>
            <a:ext cx="8896320" cy="3743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566720" y="20415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780000" y="19987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6012000" y="19987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8153280" y="198900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1692360" y="238752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3924360" y="23922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6156360" y="23684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8253360" y="235908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468360" y="3851280"/>
            <a:ext cx="3095640" cy="301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468360" y="4221000"/>
            <a:ext cx="309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8373" descr=""/>
          <p:cNvPicPr/>
          <p:nvPr/>
        </p:nvPicPr>
        <p:blipFill>
          <a:blip r:embed="rId1"/>
          <a:stretch/>
        </p:blipFill>
        <p:spPr>
          <a:xfrm>
            <a:off x="1209600" y="1895400"/>
            <a:ext cx="6724800" cy="30672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3024360" cy="301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1835280" y="2708280"/>
            <a:ext cx="3024000" cy="301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1619280" y="3789360"/>
            <a:ext cx="3024000" cy="3016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1476360" y="4159080"/>
            <a:ext cx="3024360" cy="301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1476360" y="4518000"/>
            <a:ext cx="3024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24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